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781-DA87-4668-AA5D-A9AFD57E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D7D-8268-458D-BF94-423F0BB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3D1-B3EA-419C-B751-33054B6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692-7581-4E4B-A5EE-A4B9CA8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92B-3537-4CCA-81A3-3B85D6C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EBB-BB83-4E8F-89ED-46DE7CA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EC3-C516-4A4F-A51D-3067D92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F3E-D006-4A0E-B854-AE8FA6D8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7E2-BBF4-416F-B812-D6DF72D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F30-2B9F-4BB3-9A9A-FAD6828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D19-CFEB-411F-A443-3747F2E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061-F722-4D0F-8DA1-052A9C8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C98B-211B-4CC2-BCF0-C94DE5A6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s make it harder to buy necessities, like food and clot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692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ccer ball.jpg"/>
          <p:cNvPicPr/>
          <p:nvPr/>
        </p:nvPicPr>
        <p:blipFill>
          <a:blip r:embed="rId1"/>
          <a:stretch/>
        </p:blipFill>
        <p:spPr>
          <a:xfrm>
            <a:off x="609480" y="4876920"/>
            <a:ext cx="18385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15T01:12:50Z</dcterms:modified>
  <cp:revision>7</cp:revision>
  <dc:subject/>
  <dc:title>Present Day Russia</dc:title>
</cp:coreProperties>
</file>